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9028-3AE7-4B08-A991-BFE4C7E9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D9EC-A460-46DC-855D-8233A407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FC5F-4363-401E-8A70-641FBEE35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C47D-8FE6-4B5D-80D3-D13E3722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142A-1773-4F62-9E2A-0ABEB6E6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5E16-62BC-412A-9F67-3D308C3B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BBDF-A9DE-4063-B3CC-9B59275B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8FA5-8486-4C6F-970E-2F4396D3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AFC5-0CD8-4DB3-BC07-5687D2AE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27B1-686B-4234-86E1-8F8705EF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C13F-CC7F-4D37-99AC-C8817485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7C0B-D271-43A7-9E31-E233675E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1C29-5E6C-41CF-B905-B268F7CFE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tertainment.howstuffworks.com/arts/artwork/claude-monet-paintings-1873-1878.htm" TargetMode="External"/><Relationship Id="rId2" Type="http://schemas.openxmlformats.org/officeDocument/2006/relationships/hyperlink" Target="http://en.wikipedia.org/wiki/Claude_Monet" TargetMode="External"/><Relationship Id="rId3" Type="http://schemas.openxmlformats.org/officeDocument/2006/relationships/hyperlink" Target="http://en.wikipedia.org/wiki/File:Claude_Monet_011.jpg" TargetMode="External"/><Relationship Id="rId4" Type="http://schemas.openxmlformats.org/officeDocument/2006/relationships/hyperlink" Target="http://en.wikipedia.org/wiki/File:Claude_Monet_-_Camille_Monet_sur_son_lit_de_mort.JPG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mpression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adeline R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e Impressionist Move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mpressionism was a 19th century art movement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s small, thin visible brush strokes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riginated in Fra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minent in the 1870s and 1880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 first, people didn't like Impressionism, but later they came to accept it as a great art form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aude Mone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5920" y="1707840"/>
            <a:ext cx="5845320" cy="60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d From 1840-19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born Oscar-Claude and his family called him Oscar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studied under Charles Gley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married Camille Doncieux in 1870 before the franc-Prussian war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ille died of tuberculosis in 1879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married his second wife,Alice Hoschedé, in 189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d of lung cancer and is buried in the Giverny Cemetery.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97760" y="1930320"/>
            <a:ext cx="3889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man With a Paraso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69320" y="1117440"/>
            <a:ext cx="1781280" cy="59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    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4440" y="1282680"/>
            <a:ext cx="4503600" cy="23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inted in 1875 by Claude Monet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original is in the 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ional Gallery of Art , in Washington, D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75040" y="1015920"/>
            <a:ext cx="510876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amille Monet on her Deathb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2640" y="1829880"/>
            <a:ext cx="4532040" cy="550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aude Monet's wife Camille died in 1879 of tuberculosis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 painted this to honor her while she was dying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s painting is currently in Musee D'Orsay in Pari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994360" y="1828800"/>
            <a:ext cx="343548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e Cliffs at Etretat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2640" y="1833480"/>
            <a:ext cx="37256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s was painted in 188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currently in the Clark Art Institute, Williamstown, Massachusetts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657600" y="1828800"/>
            <a:ext cx="600696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ater Lili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000" y="1833480"/>
            <a:ext cx="4633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 painted it from a lake where he lived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was painted in 1906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in the Art Institute of Chicag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0" y="304920"/>
            <a:ext cx="52783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e Poppy Field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30680" y="304560"/>
            <a:ext cx="353088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s was painted in 1873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was painted near Argenteuil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entertainment.howstuffworks.com/arts/artwork/claude-monet-paintings-1873-1878.htm 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en.wikipedia.org/wiki/Claude_Monet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en.wikipedia.org/wiki/File:Claude_Monet_011.jpg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en.wikipedia.org/wiki/File:Claude_Monet_-_Camille_Monet_sur_son_lit_de_mort.JPG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Arial"/>
              </a:rPr>
              <a:t>http://en.wikipedia.org/wiki/File:Claude_Monet_The_Cliffs_at_Etretat.jpg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Arial"/>
              </a:rPr>
              <a:t>http://en.wikipedia.org/wiki/File:Claude_Monet_-_Water_Lilies_-_1906,_Ryerson.jpg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Arial"/>
              </a:rPr>
              <a:t>http://www.artcyclopedia.com/artists/monet_claude.htm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ff"/>
                </a:solidFill>
                <a:uFillTx/>
                <a:latin typeface="Arial"/>
              </a:rPr>
              <a:t>http://en.wikipedia.org/wiki/Impressionism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asmith</cp:lastModifiedBy>
  <dcterms:modified xsi:type="dcterms:W3CDTF">2011-10-05T01:36:53Z</dcterms:modified>
  <cp:revision>1</cp:revision>
  <dc:subject/>
  <dc:title>PowerPoint Presentation</dc:title>
</cp:coreProperties>
</file>